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4DB749-0696-4B8D-9D9D-BBC1B4363B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653226-F67D-4DE8-86D9-E2C8AD5D46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7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69E439B-CF68-4C0F-A2FA-04CDEBA704B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DD5A578-0AF8-49BF-894B-E434D208DAE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1EA0B4C-C756-4A8F-AA25-D4C0353A53D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8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C33D2C-029B-44F8-92C6-891A0E4ADE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8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9"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CB9448-C020-46F0-A275-A4A4BA8165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3"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0BBCE5-5536-4881-9AB7-B6040B2684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5"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6"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CBC2175-5E65-4069-8E99-6370EB22536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1"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7F1DFC7-037A-4E72-AE96-1ACF797E2A6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03"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4"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5"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6"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7"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8"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E4DEE52-5311-48FB-B48E-ED26F34BB05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F8F63B8-C1B1-45EA-96E0-5F7B1B6A4E4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855B9E-0D37-4CA9-9EBB-414C0C36A3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1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55F7BA5-12AF-4618-A495-283F558F964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D3FD3A7-0EB1-4871-B39B-C2E2A91889A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0D6713C-4F7F-4F45-B353-6371F8AD063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6FE830A-833A-415D-9D1B-44B1C0FACCA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E0A6A70-5314-4100-B410-146A157AB31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2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2034A52-EC6B-41BF-8FB8-F326AF9A41E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2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13C5CE2-1766-427C-8C7D-D1F78F08320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EE00995-32EE-42F9-9DE4-65C22EF281C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25DC86C-85E1-40C7-A7B5-43C7F09BBA3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AF27DFC-3C11-459E-B886-98CA45EF498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A1D986-A8AB-4154-AE49-47798BF1BD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4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AB2598C-E40E-40B7-AEA1-8F6C1B9F1EA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6D43E40-6357-4CF3-9F27-F1CD8D580FF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5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B25E227-44C1-4008-8A36-24712021112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5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F752F6F-974D-4ABC-865E-C275048BA46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6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E2DDBD5-C3A3-4705-B1F5-ED122B4D3AB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D82A9D0-37E5-4B11-9976-1CE1B0F0BFC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FCBE364-D2AD-4BE2-A71F-8170F605B26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6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7E08F66-A948-45DF-937D-E03C34E3CBF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6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90DBF5E-DDC4-4153-8749-7B3C847DB1B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3629E0C-A606-4E80-8D94-1A02F32FC80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F3C5A975-0525-41AB-A8F6-0358D54129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2FCDCB9-1A3F-48D5-AB10-C1DDB69D9A1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8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AAE0295-5668-488C-8446-DD59616E81A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8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5F39E1F-96D8-48E6-A2CC-9F49AD68664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0E95411-55A7-4945-B19E-B40FACFD1DE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9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5C55B98-E73E-478D-9B23-2EB35C7C1C5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9A8F756-D79C-43F4-9FD9-C318C81AE66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64BC830-C6E6-46DC-A058-4AE7789A01C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86DD28F-E60C-4CC4-BD54-36EBB072AA7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FA98E72-9E7F-4453-BF3B-8F1B73CBAD2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B829CAF-3C89-4AFE-8055-57EE1946DD6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F2A3CC1-7B4C-4C5C-9CB9-20F74BBB9C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D8D8C84-AC18-4AE5-9F04-3BC0505000B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1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7A5F0B7-4B0D-40EB-868D-2FDD6CD962F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1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3EBC851-6169-499C-B44C-D40F5880C53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2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B5EA07A-AC57-422C-9B8D-F1C3405DE5B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2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48B425A-0FAA-4548-839C-46ECC20BD67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04B7D9B-0788-4C9B-A586-727E6A4BE8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0AFD131-46C1-4227-9106-8ED52B32C8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E8E16D2-A9B5-45D0-B44A-58534932F8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08ED332-CEA3-43C0-BF5F-D01DE09AFC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57650EE-26B2-4058-9240-5B6B5E3C98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AD41EA-D5F1-40E8-9BD9-954431A3F1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2304B7D-D366-4A5F-81A0-FC50877E0D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F8438F6-C9C7-4F31-9A0D-3785E7A8E4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D6C61E9-136A-4546-A42F-E273847863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88808C8-55BF-4CB9-AA24-2F749CC7D4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A0E4B0D-1CF8-4AAB-88ED-0BB7ED264A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8B86B63-24E0-405C-ADDD-2691B6906A2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7FCF5F-545B-49DC-8EC8-A454B0F6A1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A95FDA-9EDE-43C2-A852-0D89E62F57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CD4A13-7BCE-40D9-AABB-B2E28CF296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2562D5-F6C4-4BB1-A462-747260BB7E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4992CA-FCE4-4A31-9B96-CFDA2C4E2A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13413B-902A-4A0B-80F7-19B2B541E5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C51603-6227-4577-8563-A040C3033D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664A24-8325-49E2-AF76-1B98D68569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038A0C-A274-4B52-9CFE-29712E565C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14F039-1ED6-4A63-AF9E-ABDC878382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4F5E40C-A5F0-4377-BF08-95A42DBAEC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70C26A9-2BEB-40B3-A3D3-1A281B36726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F887F6D-11BB-40F2-8F20-BE56E3C04A1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6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821AD8-7E50-4EB5-B9F7-ECB824E759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7D44CB-6236-42F7-8339-97A10D56B9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C9F18D-4FDD-46D8-AB52-E794800085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6422C6-82CB-4409-9B79-632514B9C2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A51C19-F06A-41F1-8905-8E5637ECBE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A8DF9F-A153-48A0-826F-84AF7BD204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C0C333-BB9B-4AFF-8F1B-E87F9E27DB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8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D8B5C1-7168-45F4-9D55-D3F37412C8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8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62841C-F7F2-44C4-A90A-A5CECCDEE3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9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9863C5-08DF-4A4D-BF3E-75A0D4157A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9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1E3E0CA-DC8B-4F6C-BADC-85C0BF4B859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9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1E153E1-99CB-498F-8AAF-F799C9C931D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B6EC4B5-2F99-4908-B529-D7606ACE592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37A174-A62A-47B6-B17C-BD3A8FC9C6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1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722AB9-75A8-47BF-B89D-61412D69F4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1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C95601-25E5-4A37-830E-E6BA7EB002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1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AF353D-5B53-405A-AFA7-5FBA5E3137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74EEFF-5DB6-400A-81E0-C7BA42F970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6B9A0F-A10A-491A-BF15-A0AEA3CFE5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1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EE269F-556D-4FAF-AE56-93B1D5B94D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2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F6EADE-9DDE-4A07-8F8F-13CC4F8585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2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4E1F31-9B45-4772-BD02-32DC7978D8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3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0A2DBF-D3D4-4CFA-A53A-F1A60CE84D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3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316B174-9FEB-4DF1-9EA5-BC90AEB3F62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08670D-CA2E-4EFC-9085-4B1DE5B1A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3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B9FAE0A-7A49-4EF2-AE56-D4925202990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0CC8283-B396-42B4-8BA6-621D75788E8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51"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C23B5D-8997-46C6-B987-1198FB3AFF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A004D9-58BB-4DE1-8650-5D28791F00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5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C8FD85-8E5D-4C7B-89AB-C83CAC60FB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EF1850-3320-43EB-BA54-D43C71C587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07C0E0-C644-416D-B504-17D30808E00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124573-D4B6-4707-A9C0-C97101AA05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6"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B4992A-537A-461E-A886-31855D5390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0"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876B30-32DB-4052-871B-1AFF43EC1F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DC9FD-45D8-46F5-8BAA-5E5FD56BB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72"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3"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B9CB48-CF16-4394-A89B-39FB8FF010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7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8"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AA514C3-91AD-41A0-927B-1C389580DE4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0"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1"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2"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3"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4"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5"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1F42190-7784-48C1-8ECA-69A4ED1DB2B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D1CF7AE-0471-413A-BE4A-ED5A31F110F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9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86F100E-0683-4677-8DB7-9DADD1967D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9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BD1CD5-D583-4CF6-AFBC-1F67E734C0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9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1C999B-B464-406C-874F-4475BF80C9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D28029-2F17-40FA-9CDC-9495B50AC5F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7D294B-95CD-4880-99B3-9CFDDA3524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BBCEB6-FC4B-4B64-BCF3-27A298E960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CD8AD-A35E-419B-9C90-BD6AC29096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33402E-F559-46D3-8056-52C629E178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78B5FD-D723-4AA6-B8C8-D6B62B276A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1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C208C5-947F-428C-BEB5-E4C69EDFAD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1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390801B-EBE0-4094-BF67-E8FA2DA9F13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2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F265901-C4E1-437E-9C69-DA120A2779F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274D466-A26E-4A3C-BCE0-183CA45D3E1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3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3368093-0785-4D47-B973-2475E3BAF25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FFD9EE0-122F-4EB1-8DC7-F4391DE7572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3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24567D0-DEDB-4C14-8CAC-D32BB39CE21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5A568D-E474-4D1A-BCE2-FDB01DB6303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59298-00B4-440D-8BCE-5BEBCA20C4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D40B6EC-71E1-430E-8401-BE884BDB685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4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3595EF-C43D-44C0-9B80-F8D35B2634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4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416F0E-7E17-46B6-9445-9E43C505D0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766610-5659-4F13-8C36-2724516481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7A24AE2-2F3C-4341-9389-44C7EDEFCB8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C1CD4AE-4A27-4D86-9511-2C81D827235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6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1FD9C50-6C48-4228-B8E7-EBDA2F629B8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F61BB11-2DB7-49CB-931E-62F2C06553A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74"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D7FED8A-4232-44C0-8F97-A2E06521215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7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F7A4759-8372-45B4-81A1-76B08D75B25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0" y="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Freeform 5"/>
          <p:cNvSpPr/>
          <p:nvPr/>
        </p:nvSpPr>
        <p:spPr>
          <a:xfrm>
            <a:off x="6248520" y="6262560"/>
            <a:ext cx="2895480" cy="60984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4249800" y="6019920"/>
                <a:ext cx="29520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4809960" y="6180120"/>
                <a:ext cx="60012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5759280" y="6137280"/>
                <a:ext cx="24624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3946680" y="6126120"/>
                <a:ext cx="6660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Freeform 14"/>
            <p:cNvSpPr/>
            <p:nvPr/>
          </p:nvSpPr>
          <p:spPr>
            <a:xfrm>
              <a:off x="0" y="6019920"/>
              <a:ext cx="631188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2A5B2-A089-4A86-B173-5B923EF3B3A6}"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410"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11" name="PlaceHolder 3"/>
          <p:cNvSpPr>
            <a:spLocks noGrp="1"/>
          </p:cNvSpPr>
          <p:nvPr>
            <p:ph type="dt" idx="28"/>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PlaceHolder 5"/>
          <p:cNvSpPr>
            <a:spLocks noGrp="1"/>
          </p:cNvSpPr>
          <p:nvPr>
            <p:ph type="sldNum" idx="30"/>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990B8-7AA3-4060-93B1-00042F90C404}"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45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52" name="PlaceHolder 3"/>
          <p:cNvSpPr>
            <a:spLocks noGrp="1"/>
          </p:cNvSpPr>
          <p:nvPr>
            <p:ph type="dt" idx="3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PlaceHolder 5"/>
          <p:cNvSpPr>
            <a:spLocks noGrp="1"/>
          </p:cNvSpPr>
          <p:nvPr>
            <p:ph type="sldNum" idx="3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32524-5EA4-40BC-98CD-A06AB6D06A7E}"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49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93" name="PlaceHolder 3"/>
          <p:cNvSpPr>
            <a:spLocks noGrp="1"/>
          </p:cNvSpPr>
          <p:nvPr>
            <p:ph type="dt" idx="3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5" name="PlaceHolder 5"/>
          <p:cNvSpPr>
            <a:spLocks noGrp="1"/>
          </p:cNvSpPr>
          <p:nvPr>
            <p:ph type="sldNum" idx="3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5D765-9BD6-4C85-962B-70DD8E692848}" type="slidenum">
              <a:rPr b="0" lang="it-IT"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Freeform 4"/>
            <p:cNvSpPr/>
            <p:nvPr/>
          </p:nvSpPr>
          <p:spPr>
            <a:xfrm>
              <a:off x="-6480" y="2052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Freeform 5"/>
          <p:cNvSpPr/>
          <p:nvPr/>
        </p:nvSpPr>
        <p:spPr>
          <a:xfrm>
            <a:off x="6242040" y="6269040"/>
            <a:ext cx="2895480" cy="60948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Freeform 10"/>
              <p:cNvSpPr/>
              <p:nvPr/>
            </p:nvSpPr>
            <p:spPr>
              <a:xfrm>
                <a:off x="4247640" y="6033960"/>
                <a:ext cx="29484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Freeform 11"/>
              <p:cNvSpPr/>
              <p:nvPr/>
            </p:nvSpPr>
            <p:spPr>
              <a:xfrm>
                <a:off x="4807800" y="6194160"/>
                <a:ext cx="59976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Freeform 12"/>
              <p:cNvSpPr/>
              <p:nvPr/>
            </p:nvSpPr>
            <p:spPr>
              <a:xfrm>
                <a:off x="5757120" y="6151320"/>
                <a:ext cx="24588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Freeform 13"/>
              <p:cNvSpPr/>
              <p:nvPr/>
            </p:nvSpPr>
            <p:spPr>
              <a:xfrm>
                <a:off x="3944880" y="6140160"/>
                <a:ext cx="6624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Freeform 14"/>
            <p:cNvSpPr/>
            <p:nvPr/>
          </p:nvSpPr>
          <p:spPr>
            <a:xfrm>
              <a:off x="-1440" y="6033960"/>
              <a:ext cx="631152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22065-99ED-4B56-8F48-DC051A71A49A}"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23"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4"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E148E-ADA0-449D-949D-CC5B819E936C}"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6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65"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E37BD-0E69-4288-9F0F-8751DB7AA73D}"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05"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06"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15EE8-88DD-4293-BEA7-2AD6218E8851}"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4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47" name="PlaceHolder 3"/>
          <p:cNvSpPr>
            <a:spLocks noGrp="1"/>
          </p:cNvSpPr>
          <p:nvPr>
            <p:ph type="dt" idx="16"/>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PlaceHolder 5"/>
          <p:cNvSpPr>
            <a:spLocks noGrp="1"/>
          </p:cNvSpPr>
          <p:nvPr>
            <p:ph type="sldNum" idx="18"/>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FE6B8-3170-49DF-9111-8E8E7A38BA0C}"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87"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88"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F1952-CCCE-4156-AAFC-2EF5E755D9AC}"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32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29"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4"/>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C906E-A3F4-4021-8B06-2C9B4225D42E}"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369"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70" name="PlaceHolder 3"/>
          <p:cNvSpPr>
            <a:spLocks noGrp="1"/>
          </p:cNvSpPr>
          <p:nvPr>
            <p:ph type="dt" idx="25"/>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PlaceHolder 5"/>
          <p:cNvSpPr>
            <a:spLocks noGrp="1"/>
          </p:cNvSpPr>
          <p:nvPr>
            <p:ph type="sldNum" idx="27"/>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C912F-5947-4AF2-A838-7AEF834FAF65}"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0" y="1484280"/>
            <a:ext cx="8424720" cy="266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3e3ff"/>
                </a:solidFill>
                <a:latin typeface="Comic Sans MS"/>
              </a:rPr>
              <a:t>LA NORMATIVA RELATIVA AL </a:t>
            </a:r>
            <a:br>
              <a:rPr sz="3200"/>
            </a:br>
            <a:br>
              <a:rPr sz="3200"/>
            </a:br>
            <a:r>
              <a:rPr b="1" lang="it-IT" sz="3200" spc="-1" strike="noStrike">
                <a:solidFill>
                  <a:srgbClr val="e3e3ff"/>
                </a:solidFill>
                <a:latin typeface="Comic Sans MS"/>
              </a:rPr>
              <a:t>DOCENTE DI SOSTEGNO</a:t>
            </a:r>
            <a:endParaRPr b="0" lang="en-US" sz="3200" spc="-1" strike="noStrike">
              <a:solidFill>
                <a:srgbClr val="e3e3ff"/>
              </a:solidFill>
              <a:latin typeface="Arial"/>
            </a:endParaRPr>
          </a:p>
        </p:txBody>
      </p:sp>
      <p:sp>
        <p:nvSpPr>
          <p:cNvPr id="533" name="PlaceHolder 2"/>
          <p:cNvSpPr>
            <a:spLocks noGrp="1"/>
          </p:cNvSpPr>
          <p:nvPr>
            <p:ph type="subTitle"/>
          </p:nvPr>
        </p:nvSpPr>
        <p:spPr>
          <a:xfrm>
            <a:off x="1371240" y="4508640"/>
            <a:ext cx="6558120" cy="707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BORDERLINE  - Il disabile intellettivo borderline e lieve</a:t>
            </a:r>
            <a:endParaRPr b="0" lang="en-US" sz="2000" spc="-1" strike="noStrike">
              <a:solidFill>
                <a:srgbClr val="ffffff"/>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Udine, 6 maggio 2009  - S. Sec. di primo grado “via Petrarc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32"/>
                                        </p:tgtEl>
                                        <p:attrNameLst>
                                          <p:attrName>style.visibility</p:attrName>
                                        </p:attrNameLst>
                                      </p:cBhvr>
                                      <p:to>
                                        <p:strVal val="visible"/>
                                      </p:to>
                                    </p:set>
                                    <p:anim calcmode="lin" valueType="num">
                                      <p:cBhvr additive="base">
                                        <p:cTn id="7" dur="500" fill="hold"/>
                                        <p:tgtEl>
                                          <p:spTgt spid="532"/>
                                        </p:tgtEl>
                                        <p:attrNameLst>
                                          <p:attrName>ppt_x</p:attrName>
                                        </p:attrNameLst>
                                      </p:cBhvr>
                                      <p:tavLst>
                                        <p:tav tm="0">
                                          <p:val>
                                            <p:strVal val="0-#ppt_w/2"/>
                                          </p:val>
                                        </p:tav>
                                        <p:tav tm="100000">
                                          <p:val>
                                            <p:strVal val="#ppt_x"/>
                                          </p:val>
                                        </p:tav>
                                      </p:tavLst>
                                    </p:anim>
                                    <p:anim calcmode="lin" valueType="num">
                                      <p:cBhvr additive="base">
                                        <p:cTn id="8" dur="500" fill="hold"/>
                                        <p:tgtEl>
                                          <p:spTgt spid="5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149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000" spc="-1" strike="noStrike">
              <a:solidFill>
                <a:srgbClr val="e3e3ff"/>
              </a:solidFill>
              <a:latin typeface="Arial"/>
            </a:endParaRPr>
          </a:p>
        </p:txBody>
      </p:sp>
      <p:sp>
        <p:nvSpPr>
          <p:cNvPr id="535" name="PlaceHolder 2"/>
          <p:cNvSpPr>
            <a:spLocks noGrp="1"/>
          </p:cNvSpPr>
          <p:nvPr>
            <p:ph/>
          </p:nvPr>
        </p:nvSpPr>
        <p:spPr>
          <a:xfrm>
            <a:off x="0" y="333360"/>
            <a:ext cx="9144000" cy="65246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DPR n. 970/1975</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Il personale specializzato non è assegnato per gli alunni diversamente abili, ma “a scuole normali per interventi individualizzati di natura integrativa in favore della generalità degli alunni e in particolare di quelli che presentano specifiche difficoltà di apprendimento…”</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CM n. 199/1979</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 </a:t>
            </a:r>
            <a:r>
              <a:rPr b="0" lang="it-IT" sz="2400" spc="-1" strike="noStrike">
                <a:solidFill>
                  <a:srgbClr val="ffffff"/>
                </a:solidFill>
                <a:latin typeface="Arial"/>
              </a:rPr>
              <a:t>Bisogna evitare che i compito dell’insegnante di sostegno siano interpretati in modo riduttivo e cioè in sottordine all’insegnante di classe… La responsabilità dell’integrazione è assunta non dalla singola classe, ma da tutta la comunità scolastica…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Tutti gli insegnanti di sostegno e di classe devono essere capaci di rispondere ai bisogni educativi degli alunni, con interventi calibrati sulle condizioni personali di ciascun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0">
                                  <p:stCondLst>
                                    <p:cond delay="0"/>
                                  </p:stCondLst>
                                  <p:childTnLst>
                                    <p:set>
                                      <p:cBhvr>
                                        <p:cTn id="14" dur="1" fill="hold">
                                          <p:stCondLst>
                                            <p:cond delay="0"/>
                                          </p:stCondLst>
                                        </p:cTn>
                                        <p:tgtEl>
                                          <p:spTgt spid="535">
                                            <p:txEl>
                                              <p:pRg st="0" end="0"/>
                                            </p:txEl>
                                          </p:spTgt>
                                        </p:tgtEl>
                                        <p:attrNameLst>
                                          <p:attrName>style.visibility</p:attrName>
                                        </p:attrNameLst>
                                      </p:cBhvr>
                                      <p:to>
                                        <p:strVal val="visible"/>
                                      </p:to>
                                    </p:set>
                                    <p:animEffect filter="fade" transition="in">
                                      <p:cBhvr additive="repl">
                                        <p:cTn id="15" dur="2000"/>
                                        <p:tgtEl>
                                          <p:spTgt spid="535">
                                            <p:txEl>
                                              <p:pRg st="0" end="0"/>
                                            </p:txEl>
                                          </p:spTgt>
                                        </p:tgtEl>
                                      </p:cBhvr>
                                    </p:animEffect>
                                  </p:childTnLst>
                                </p:cTn>
                              </p:par>
                              <p:par>
                                <p:cTn id="16" nodeType="withEffect" fill="hold" presetClass="entr" presetID="10">
                                  <p:stCondLst>
                                    <p:cond delay="0"/>
                                  </p:stCondLst>
                                  <p:childTnLst>
                                    <p:set>
                                      <p:cBhvr>
                                        <p:cTn id="17" dur="1" fill="hold">
                                          <p:stCondLst>
                                            <p:cond delay="0"/>
                                          </p:stCondLst>
                                        </p:cTn>
                                        <p:tgtEl>
                                          <p:spTgt spid="535">
                                            <p:txEl>
                                              <p:pRg st="1" end="1"/>
                                            </p:txEl>
                                          </p:spTgt>
                                        </p:tgtEl>
                                        <p:attrNameLst>
                                          <p:attrName>style.visibility</p:attrName>
                                        </p:attrNameLst>
                                      </p:cBhvr>
                                      <p:to>
                                        <p:strVal val="visible"/>
                                      </p:to>
                                    </p:set>
                                    <p:animEffect filter="fade" transition="in">
                                      <p:cBhvr additive="repl">
                                        <p:cTn id="18" dur="2000"/>
                                        <p:tgtEl>
                                          <p:spTgt spid="535">
                                            <p:txEl>
                                              <p:pRg st="1" end="1"/>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535">
                                            <p:txEl>
                                              <p:pRg st="3" end="3"/>
                                            </p:txEl>
                                          </p:spTgt>
                                        </p:tgtEl>
                                        <p:attrNameLst>
                                          <p:attrName>style.visibility</p:attrName>
                                        </p:attrNameLst>
                                      </p:cBhvr>
                                      <p:to>
                                        <p:strVal val="visible"/>
                                      </p:to>
                                    </p:set>
                                    <p:animEffect filter="fade" transition="in">
                                      <p:cBhvr additive="repl">
                                        <p:cTn id="23" dur="2000"/>
                                        <p:tgtEl>
                                          <p:spTgt spid="535">
                                            <p:txEl>
                                              <p:pRg st="3" end="3"/>
                                            </p:txEl>
                                          </p:spTgt>
                                        </p:tgtEl>
                                      </p:cBhvr>
                                    </p:animEffect>
                                  </p:childTnLst>
                                </p:cTn>
                              </p:par>
                              <p:par>
                                <p:cTn id="24" nodeType="withEffect" fill="hold" presetClass="entr" presetID="10">
                                  <p:stCondLst>
                                    <p:cond delay="0"/>
                                  </p:stCondLst>
                                  <p:childTnLst>
                                    <p:set>
                                      <p:cBhvr>
                                        <p:cTn id="25" dur="1" fill="hold">
                                          <p:stCondLst>
                                            <p:cond delay="0"/>
                                          </p:stCondLst>
                                        </p:cTn>
                                        <p:tgtEl>
                                          <p:spTgt spid="535">
                                            <p:txEl>
                                              <p:pRg st="4" end="4"/>
                                            </p:txEl>
                                          </p:spTgt>
                                        </p:tgtEl>
                                        <p:attrNameLst>
                                          <p:attrName>style.visibility</p:attrName>
                                        </p:attrNameLst>
                                      </p:cBhvr>
                                      <p:to>
                                        <p:strVal val="visible"/>
                                      </p:to>
                                    </p:set>
                                    <p:animEffect filter="fade" transition="in">
                                      <p:cBhvr additive="repl">
                                        <p:cTn id="26" dur="2000"/>
                                        <p:tgtEl>
                                          <p:spTgt spid="535">
                                            <p:txEl>
                                              <p:pRg st="4" end="4"/>
                                            </p:txEl>
                                          </p:spTgt>
                                        </p:tgtEl>
                                      </p:cBhvr>
                                    </p:animEffect>
                                  </p:childTnLst>
                                </p:cTn>
                              </p:par>
                              <p:par>
                                <p:cTn id="27" nodeType="withEffect" fill="hold" presetClass="entr" presetID="10">
                                  <p:stCondLst>
                                    <p:cond delay="0"/>
                                  </p:stCondLst>
                                  <p:childTnLst>
                                    <p:set>
                                      <p:cBhvr>
                                        <p:cTn id="28" dur="1" fill="hold">
                                          <p:stCondLst>
                                            <p:cond delay="0"/>
                                          </p:stCondLst>
                                        </p:cTn>
                                        <p:tgtEl>
                                          <p:spTgt spid="535">
                                            <p:txEl>
                                              <p:pRg st="5" end="5"/>
                                            </p:txEl>
                                          </p:spTgt>
                                        </p:tgtEl>
                                        <p:attrNameLst>
                                          <p:attrName>style.visibility</p:attrName>
                                        </p:attrNameLst>
                                      </p:cBhvr>
                                      <p:to>
                                        <p:strVal val="visible"/>
                                      </p:to>
                                    </p:set>
                                    <p:animEffect filter="fade" transition="in">
                                      <p:cBhvr additive="repl">
                                        <p:cTn id="29" dur="2000"/>
                                        <p:tgtEl>
                                          <p:spTgt spid="53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149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000" spc="-1" strike="noStrike">
              <a:solidFill>
                <a:srgbClr val="e3e3ff"/>
              </a:solidFill>
              <a:latin typeface="Arial"/>
            </a:endParaRPr>
          </a:p>
        </p:txBody>
      </p:sp>
      <p:sp>
        <p:nvSpPr>
          <p:cNvPr id="537" name="PlaceHolder 2"/>
          <p:cNvSpPr>
            <a:spLocks noGrp="1"/>
          </p:cNvSpPr>
          <p:nvPr>
            <p:ph/>
          </p:nvPr>
        </p:nvSpPr>
        <p:spPr>
          <a:xfrm>
            <a:off x="0" y="259920"/>
            <a:ext cx="9144000" cy="6597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CM 250/1985</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 </a:t>
            </a:r>
            <a:r>
              <a:rPr b="0" lang="it-IT" sz="2400" spc="-1" strike="noStrike">
                <a:solidFill>
                  <a:srgbClr val="ffffff"/>
                </a:solidFill>
                <a:latin typeface="Arial"/>
              </a:rPr>
              <a:t>La responsabilità dell’integrazione è, al medesimo titolo, dell’insegnante o degli insegnanti di classe e della comunità scolastica nel suo insieme. Ciò significa che non si deve mai delegare al solo insegnante di sostegno l’attuazione del progetto educativo individualizzato, poiché in tal modo l’alunno verrebbe isolato anziché integrato nel contesto della classe, ma tutti i docenti devono farsi carico della programmazione e della attuazione e verifica degli interventi didattico-educativi previsti dal piano individualizzato. Spetta agli insegnanti di classe e di sezione, in accordo con l’insegnante di sostegno, realizzare tale progetto anche quando quest’ultimo insegnante non sia presente nell’aul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537">
                                            <p:txEl>
                                              <p:pRg st="0" end="0"/>
                                            </p:txEl>
                                          </p:spTgt>
                                        </p:tgtEl>
                                        <p:attrNameLst>
                                          <p:attrName>style.visibility</p:attrName>
                                        </p:attrNameLst>
                                      </p:cBhvr>
                                      <p:to>
                                        <p:strVal val="visible"/>
                                      </p:to>
                                    </p:set>
                                    <p:animEffect filter="fade" transition="in">
                                      <p:cBhvr additive="repl">
                                        <p:cTn id="36" dur="2000"/>
                                        <p:tgtEl>
                                          <p:spTgt spid="537">
                                            <p:txEl>
                                              <p:pRg st="0" end="0"/>
                                            </p:txEl>
                                          </p:spTgt>
                                        </p:tgtEl>
                                      </p:cBhvr>
                                    </p:animEffect>
                                  </p:childTnLst>
                                </p:cTn>
                              </p:par>
                              <p:par>
                                <p:cTn id="37" nodeType="withEffect" fill="hold" presetClass="entr" presetID="10">
                                  <p:stCondLst>
                                    <p:cond delay="0"/>
                                  </p:stCondLst>
                                  <p:childTnLst>
                                    <p:set>
                                      <p:cBhvr>
                                        <p:cTn id="38" dur="1" fill="hold">
                                          <p:stCondLst>
                                            <p:cond delay="0"/>
                                          </p:stCondLst>
                                        </p:cTn>
                                        <p:tgtEl>
                                          <p:spTgt spid="537">
                                            <p:txEl>
                                              <p:pRg st="2" end="2"/>
                                            </p:txEl>
                                          </p:spTgt>
                                        </p:tgtEl>
                                        <p:attrNameLst>
                                          <p:attrName>style.visibility</p:attrName>
                                        </p:attrNameLst>
                                      </p:cBhvr>
                                      <p:to>
                                        <p:strVal val="visible"/>
                                      </p:to>
                                    </p:set>
                                    <p:animEffect filter="fade" transition="in">
                                      <p:cBhvr additive="repl">
                                        <p:cTn id="39" dur="2000"/>
                                        <p:tgtEl>
                                          <p:spTgt spid="5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68360" y="-3128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000" spc="-1" strike="noStrike">
              <a:solidFill>
                <a:srgbClr val="e3e3ff"/>
              </a:solidFill>
              <a:latin typeface="Arial"/>
            </a:endParaRPr>
          </a:p>
        </p:txBody>
      </p:sp>
      <p:sp>
        <p:nvSpPr>
          <p:cNvPr id="539" name="PlaceHolder 2"/>
          <p:cNvSpPr>
            <a:spLocks noGrp="1"/>
          </p:cNvSpPr>
          <p:nvPr>
            <p:ph/>
          </p:nvPr>
        </p:nvSpPr>
        <p:spPr>
          <a:xfrm>
            <a:off x="0" y="188640"/>
            <a:ext cx="9144000" cy="6669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L. 104/1994</a:t>
            </a:r>
            <a:r>
              <a:rPr b="0" lang="it-IT" sz="2400" spc="-1" strike="noStrike">
                <a:solidFill>
                  <a:srgbClr val="ffffff"/>
                </a:solidFill>
                <a:latin typeface="Arial"/>
              </a:rPr>
              <a: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Le attività di sostegno sono garantite mediante l’assegnazione di docenti specializzati…</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Gli insegnanti di sostegno assumono la contitolarità… delle classi in cui operano, partecipano alla programmazione educativa e didattica e alla elaborazione e verifica delle attività di competenza dei consigli di interclasse e di classe e dei collegi dei docenti”</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Premessa ai programmi dei corsi biennali di specializzazione approvati con DM nel 1986 e oggetto di revisione nel 1995</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Tale insegnante deve superare le angustie di un ruolo limitato, assumendo una corretta competenza nelle problematiche dell’organizzazione scolastica, facendo valere concretamente le proprie capacità relazionali e comunicazionali, senza tuttavia prescindere dall’esercizio di specifiche competenze didattiche e curricolari”</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539">
                                            <p:txEl>
                                              <p:pRg st="0" end="0"/>
                                            </p:txEl>
                                          </p:spTgt>
                                        </p:tgtEl>
                                        <p:attrNameLst>
                                          <p:attrName>style.visibility</p:attrName>
                                        </p:attrNameLst>
                                      </p:cBhvr>
                                      <p:to>
                                        <p:strVal val="visible"/>
                                      </p:to>
                                    </p:set>
                                    <p:animEffect filter="fade" transition="in">
                                      <p:cBhvr additive="repl">
                                        <p:cTn id="46" dur="2000"/>
                                        <p:tgtEl>
                                          <p:spTgt spid="539">
                                            <p:txEl>
                                              <p:pRg st="0" end="0"/>
                                            </p:txEl>
                                          </p:spTgt>
                                        </p:tgtEl>
                                      </p:cBhvr>
                                    </p:animEffect>
                                  </p:childTnLst>
                                </p:cTn>
                              </p:par>
                              <p:par>
                                <p:cTn id="47" nodeType="withEffect" fill="hold" presetClass="entr" presetID="10">
                                  <p:stCondLst>
                                    <p:cond delay="0"/>
                                  </p:stCondLst>
                                  <p:childTnLst>
                                    <p:set>
                                      <p:cBhvr>
                                        <p:cTn id="48" dur="1" fill="hold">
                                          <p:stCondLst>
                                            <p:cond delay="0"/>
                                          </p:stCondLst>
                                        </p:cTn>
                                        <p:tgtEl>
                                          <p:spTgt spid="539">
                                            <p:txEl>
                                              <p:pRg st="1" end="1"/>
                                            </p:txEl>
                                          </p:spTgt>
                                        </p:tgtEl>
                                        <p:attrNameLst>
                                          <p:attrName>style.visibility</p:attrName>
                                        </p:attrNameLst>
                                      </p:cBhvr>
                                      <p:to>
                                        <p:strVal val="visible"/>
                                      </p:to>
                                    </p:set>
                                    <p:animEffect filter="fade" transition="in">
                                      <p:cBhvr additive="repl">
                                        <p:cTn id="49" dur="2000"/>
                                        <p:tgtEl>
                                          <p:spTgt spid="539">
                                            <p:txEl>
                                              <p:pRg st="1" end="1"/>
                                            </p:txEl>
                                          </p:spTgt>
                                        </p:tgtEl>
                                      </p:cBhvr>
                                    </p:animEffect>
                                  </p:childTnLst>
                                </p:cTn>
                              </p:par>
                              <p:par>
                                <p:cTn id="50" nodeType="withEffect" fill="hold" presetClass="entr" presetID="10">
                                  <p:stCondLst>
                                    <p:cond delay="0"/>
                                  </p:stCondLst>
                                  <p:childTnLst>
                                    <p:set>
                                      <p:cBhvr>
                                        <p:cTn id="51" dur="1" fill="hold">
                                          <p:stCondLst>
                                            <p:cond delay="0"/>
                                          </p:stCondLst>
                                        </p:cTn>
                                        <p:tgtEl>
                                          <p:spTgt spid="539">
                                            <p:txEl>
                                              <p:pRg st="2" end="2"/>
                                            </p:txEl>
                                          </p:spTgt>
                                        </p:tgtEl>
                                        <p:attrNameLst>
                                          <p:attrName>style.visibility</p:attrName>
                                        </p:attrNameLst>
                                      </p:cBhvr>
                                      <p:to>
                                        <p:strVal val="visible"/>
                                      </p:to>
                                    </p:set>
                                    <p:animEffect filter="fade" transition="in">
                                      <p:cBhvr additive="repl">
                                        <p:cTn id="52" dur="2000"/>
                                        <p:tgtEl>
                                          <p:spTgt spid="539">
                                            <p:txEl>
                                              <p:pRg st="2" end="2"/>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539">
                                            <p:txEl>
                                              <p:pRg st="4" end="4"/>
                                            </p:txEl>
                                          </p:spTgt>
                                        </p:tgtEl>
                                        <p:attrNameLst>
                                          <p:attrName>style.visibility</p:attrName>
                                        </p:attrNameLst>
                                      </p:cBhvr>
                                      <p:to>
                                        <p:strVal val="visible"/>
                                      </p:to>
                                    </p:set>
                                    <p:animEffect filter="fade" transition="in">
                                      <p:cBhvr additive="repl">
                                        <p:cTn id="57" dur="2000"/>
                                        <p:tgtEl>
                                          <p:spTgt spid="539">
                                            <p:txEl>
                                              <p:pRg st="4" end="4"/>
                                            </p:txEl>
                                          </p:spTgt>
                                        </p:tgtEl>
                                      </p:cBhvr>
                                    </p:animEffect>
                                  </p:childTnLst>
                                </p:cTn>
                              </p:par>
                              <p:par>
                                <p:cTn id="58" nodeType="withEffect" fill="hold" presetClass="entr" presetID="10">
                                  <p:stCondLst>
                                    <p:cond delay="0"/>
                                  </p:stCondLst>
                                  <p:childTnLst>
                                    <p:set>
                                      <p:cBhvr>
                                        <p:cTn id="59" dur="1" fill="hold">
                                          <p:stCondLst>
                                            <p:cond delay="0"/>
                                          </p:stCondLst>
                                        </p:cTn>
                                        <p:tgtEl>
                                          <p:spTgt spid="539">
                                            <p:txEl>
                                              <p:pRg st="5" end="5"/>
                                            </p:txEl>
                                          </p:spTgt>
                                        </p:tgtEl>
                                        <p:attrNameLst>
                                          <p:attrName>style.visibility</p:attrName>
                                        </p:attrNameLst>
                                      </p:cBhvr>
                                      <p:to>
                                        <p:strVal val="visible"/>
                                      </p:to>
                                    </p:set>
                                    <p:animEffect filter="fade" transition="in">
                                      <p:cBhvr additive="repl">
                                        <p:cTn id="60" dur="2000"/>
                                        <p:tgtEl>
                                          <p:spTgt spid="53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149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000" spc="-1" strike="noStrike">
              <a:solidFill>
                <a:srgbClr val="e3e3ff"/>
              </a:solidFill>
              <a:latin typeface="Arial"/>
            </a:endParaRPr>
          </a:p>
        </p:txBody>
      </p:sp>
      <p:sp>
        <p:nvSpPr>
          <p:cNvPr id="541" name="PlaceHolder 2"/>
          <p:cNvSpPr>
            <a:spLocks noGrp="1"/>
          </p:cNvSpPr>
          <p:nvPr>
            <p:ph/>
          </p:nvPr>
        </p:nvSpPr>
        <p:spPr>
          <a:xfrm>
            <a:off x="0" y="259920"/>
            <a:ext cx="9144000" cy="6597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DM n. 226/1995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Resta senza dubbio essenziale e insopprimibile, allo stato dei bisogni e della normativa, la figura del </a:t>
            </a:r>
            <a:r>
              <a:rPr b="0" i="1" lang="it-IT" sz="2400" spc="-1" strike="noStrike">
                <a:solidFill>
                  <a:srgbClr val="ffffff"/>
                </a:solidFill>
                <a:latin typeface="Arial"/>
              </a:rPr>
              <a:t>docente specialista quale risorsa della scuola e nella scuola</a:t>
            </a:r>
            <a:r>
              <a:rPr b="0" lang="it-IT" sz="2400" spc="-1" strike="noStrike">
                <a:solidFill>
                  <a:srgbClr val="ffffff"/>
                </a:solidFill>
                <a:latin typeface="Arial"/>
              </a:rPr>
              <a:t>, ma la risposta all’esigenza di integrazione non può più esaurirsi né quindi limitarsi alla formazione di personale </a:t>
            </a:r>
            <a:r>
              <a:rPr b="0" i="1" lang="it-IT" sz="2400" spc="-1" strike="noStrike">
                <a:solidFill>
                  <a:srgbClr val="ffffff"/>
                </a:solidFill>
                <a:latin typeface="Arial"/>
              </a:rPr>
              <a:t>specializzato</a:t>
            </a:r>
            <a:r>
              <a:rPr b="0" lang="it-IT" sz="2400" spc="-1" strike="noStrike">
                <a:solidFill>
                  <a:srgbClr val="ffffff"/>
                </a:solidFill>
                <a:latin typeface="Arial"/>
              </a:rPr>
              <a:t>, evidenziandosi invece inderogabilmente la necessità che </a:t>
            </a:r>
            <a:r>
              <a:rPr b="0" i="1" lang="it-IT" sz="2400" spc="-1" strike="noStrike">
                <a:solidFill>
                  <a:srgbClr val="ffffff"/>
                </a:solidFill>
                <a:latin typeface="Arial"/>
              </a:rPr>
              <a:t>tutto </a:t>
            </a:r>
            <a:r>
              <a:rPr b="0" lang="it-IT" sz="2400" spc="-1" strike="noStrike">
                <a:solidFill>
                  <a:srgbClr val="ffffff"/>
                </a:solidFill>
                <a:latin typeface="Arial"/>
              </a:rPr>
              <a:t>il personale scolastico sia riqualificato in funzione della messa in atto di strategie e di tecniche che consentano di realizzare una piena ed effettiva integrazione scolastica”</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541">
                                            <p:txEl>
                                              <p:pRg st="0" end="0"/>
                                            </p:txEl>
                                          </p:spTgt>
                                        </p:tgtEl>
                                        <p:attrNameLst>
                                          <p:attrName>style.visibility</p:attrName>
                                        </p:attrNameLst>
                                      </p:cBhvr>
                                      <p:to>
                                        <p:strVal val="visible"/>
                                      </p:to>
                                    </p:set>
                                    <p:animEffect filter="fade" transition="in">
                                      <p:cBhvr additive="repl">
                                        <p:cTn id="67" dur="2000"/>
                                        <p:tgtEl>
                                          <p:spTgt spid="541">
                                            <p:txEl>
                                              <p:pRg st="0" end="0"/>
                                            </p:txEl>
                                          </p:spTgt>
                                        </p:tgtEl>
                                      </p:cBhvr>
                                    </p:animEffect>
                                  </p:childTnLst>
                                </p:cTn>
                              </p:par>
                              <p:par>
                                <p:cTn id="68" nodeType="withEffect" fill="hold" presetClass="entr" presetID="10">
                                  <p:stCondLst>
                                    <p:cond delay="0"/>
                                  </p:stCondLst>
                                  <p:childTnLst>
                                    <p:set>
                                      <p:cBhvr>
                                        <p:cTn id="69" dur="1" fill="hold">
                                          <p:stCondLst>
                                            <p:cond delay="0"/>
                                          </p:stCondLst>
                                        </p:cTn>
                                        <p:tgtEl>
                                          <p:spTgt spid="541">
                                            <p:txEl>
                                              <p:pRg st="2" end="2"/>
                                            </p:txEl>
                                          </p:spTgt>
                                        </p:tgtEl>
                                        <p:attrNameLst>
                                          <p:attrName>style.visibility</p:attrName>
                                        </p:attrNameLst>
                                      </p:cBhvr>
                                      <p:to>
                                        <p:strVal val="visible"/>
                                      </p:to>
                                    </p:set>
                                    <p:animEffect filter="fade" transition="in">
                                      <p:cBhvr additive="repl">
                                        <p:cTn id="70" dur="2000"/>
                                        <p:tgtEl>
                                          <p:spTgt spid="5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1T15:57:58Z</dcterms:created>
  <dc:creator>AP</dc:creator>
  <dc:description/>
  <dc:language>en-US</dc:language>
  <cp:lastModifiedBy>Utente</cp:lastModifiedBy>
  <dcterms:modified xsi:type="dcterms:W3CDTF">2009-05-05T21:33:14Z</dcterms:modified>
  <cp:revision>8</cp:revision>
  <dc:subject/>
  <dc:title>LA NORMATIVA RELATIVA AL DOCENTE DI   SOSTEGNO</dc:title>
</cp:coreProperties>
</file>